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9D4D-B0C4-4FAF-9780-E4CD29144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172F-99C7-4994-AC37-8BB9015B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2A7B-F6B5-4FF0-97FB-00BC5A1A8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E325-84E0-44D0-AA16-E6CF7415D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47E4-5AC0-4526-990E-873066AD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80CB-35F9-410C-82A7-C109EB13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144D-279E-4E56-9D4A-9BE4EFDA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EB34-DFAC-4229-8117-ADA21943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EDB4-3719-4416-A19F-BFFD553C6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A3E2-DCBC-485A-ADBC-2354598E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F1F0-CDB2-45ED-BF06-D37FC5CA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33D2-5BBE-46AC-B2CF-60EAEC74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B4E6-1F57-4316-A8DC-D20158658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Медицина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заснована на доказима </a:t>
            </a: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– 6. недељ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оф. др Слободан Јанкови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040040" y="2707200"/>
            <a:ext cx="707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ПРОЦЕНА СТУДИЈА ПОСВЕЋЕНИ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ПРОГНОСТИЧКИМ ФАКТОРИМ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а ли је студија прогностичког фактора валидна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а ли је у студији праћена репрезентативна популација пацијената у довољно раној фази болести? – - најбоље  је почети праћење одмах по постављању дијагноз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Да ли су пацијенти праћени довољно дуго и потпун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 -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највиш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0%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пацијената се мож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"“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изгуби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,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а да студија остане валид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Да ли су објективни критеријуми за исход примењени слеп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Ако су идентификоване подгрупе са различитом прогноз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Да ли је извршена корекција за важан прогностички факто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а ли је урађена валидација у независној групи пацијената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је прогностичка студија клинички значајн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Колико је чест одређени исход болести током времен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лико је прогноза прецизн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Прецизност се одређује на основу интервала поверењ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Да ли се ова валидн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значајна прогностичка студија може применити код мог пацијент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у пацијенти из студије слични мом пацијент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резултати студије значајно утичу на моје закључке о томе шта да понудим или кажем мом пацијент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21:18:48Z</dcterms:created>
  <dc:creator>Slobodan Jankovic</dc:creator>
  <dc:description/>
  <dc:language>en-US</dc:language>
  <cp:lastModifiedBy>Slobodan Jankovic</cp:lastModifiedBy>
  <dcterms:modified xsi:type="dcterms:W3CDTF">2014-07-12T17:25:31Z</dcterms:modified>
  <cp:revision>56</cp:revision>
  <dc:subject/>
  <dc:title>Slide 1</dc:title>
</cp:coreProperties>
</file>